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CE2-40EF-4055-A914-BEFCFF9A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169-6B0E-4222-912B-16AA73E3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67C-E497-4A34-AD69-308AA41D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403-7563-40B6-BCEE-339C7D21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167-233F-4CCB-9CFE-27812506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B97-CD4A-46E9-BF66-B6AD8473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517-3976-4AA6-871E-2EE051B6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312-953A-4714-9E88-117CAB55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7949-863C-4577-8C2C-0EAED6BE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3A8-7566-4E15-B8E8-2EA406A5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53C-CB10-4700-A38D-316B914C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8279-56EB-4A35-831E-B979B191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D4BB-92D1-42D4-81B2-DF59C5452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idence Interv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7467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2489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43800" cy="18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438280" y="4952880"/>
            <a:ext cx="441972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762012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543800" cy="1955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438280" y="3733920"/>
            <a:ext cx="4419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705720" cy="3327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670572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43000" y="4952880"/>
            <a:ext cx="6705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17T22:17:36Z</dcterms:modified>
  <cp:revision>44</cp:revision>
  <dc:subject/>
  <dc:title>PowerPoint Presentation</dc:title>
</cp:coreProperties>
</file>